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DCE7B-D64C-45B4-8BFD-B6DB0B7F0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AE282-839A-4401-B3AC-01E82F08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61798-E299-4333-B046-8FA5267A3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B3E7C-FDFB-4D3A-AADE-BB0D870CF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2C295-5850-4BA7-BE71-FF3FC1720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AA4E-6463-4284-8D96-EE1AC82E0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26EF-16F8-482D-8767-1F977ADCA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11551-95D4-494E-A4EA-1F93CEA19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33B4E-FEC0-46A4-92AA-610B5C6D9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083D-904F-4C09-B413-187CD7ADB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54827-5B16-4257-9787-00F475334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AF57-93BA-4B21-9CD4-DE93ADCFD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DB01E-F683-49D0-B042-9EB58CB45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97436-6F48-4709-8E0C-EC0BD3E85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CA8FD-B123-4AAC-BB68-A8BA2BE54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DEBA0-CCBA-4D9F-9471-570C91B64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64A99-31C1-4E7C-8F34-530C569B0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19B03-868F-4D83-B3F0-A3DDDC256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97AAE-4818-435D-84AD-A70F27E9E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1BD34A-A411-4035-8038-959277B86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9B9E8-1E95-459A-8740-74636C66B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9FF2F-AF8B-4A80-93CE-1A554F5B3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BA8B-8A85-42F9-965E-F4F88216C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3F226-D856-44B8-9F88-0A2C539F4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DAAAF-C015-4CAC-B6AB-77F50E047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ED96F-8381-485C-A29D-0A980DF6A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B64BF-C20E-4B2C-8D9B-C0C583353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2C0A7-1924-499C-893D-05C4FF786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732834-FAC2-48B3-94C2-063EF46673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F51A5B-463F-462F-B2E9-F9B782A7A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6C76C3-A8F8-4C4E-9914-215E065F5C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2107CE-2CDC-453B-9AEF-3CA78ED06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5E826-34C7-4B16-B5D6-6B2397451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E88F7-2573-4553-84B9-E5D9A493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F1969-9828-4B05-97CF-B5D70C05E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A7BBC-7801-4FA0-86F5-CE9295267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A02FE-7B9E-415D-8A05-C16A19A79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1C124-D0E8-4947-AACD-92255F95D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3198E-8FF5-421B-AA44-277BA9780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34222-8A42-4D98-9023-7CEC7529F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23E48-5ECC-4EB0-B653-A863DAF6F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1B255D-1121-4ED1-AE95-EFCEB94E1A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B97A8D-884A-4E27-998D-4360555146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D16D2-EB2B-4AC5-AF7A-22B5370DF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72C5-E1B2-4AE3-BA55-638504F2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AD08-53D7-4E67-8FAF-4B82BF59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83C9-DEBB-438A-BEE0-4B7EDF8C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8513-31B7-425E-9ADC-97777489E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9EC3-A2FC-40CF-A8F2-7605CCA92A96}"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8880-7135-435E-B56E-60F86989C0ED}"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E2EB-7016-481B-A791-F1F60F51DAB4}"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3D8F-7786-4581-ADEE-8B049BCC4A04}"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682560" y="1689120"/>
            <a:ext cx="8328240" cy="1803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Factors that are necessary for a successful virtual team.</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am communication is made a priority by the senders of information</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iable communication tools and resources to enhance relationships and communication are available to all team member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cumentation such as written goals, objectives, project resources and performance measures are results oriented and available to all team members</a:t>
            </a: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licies for human resource management, reward and recognition processes and career development are known and attend to the unique needs of the team members</a:t>
            </a: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cess to technical training and information about how to work cross culturally is provided</a:t>
            </a:r>
            <a:r>
              <a:rPr b="0" lang="en-US" sz="1600" spc="-1" strike="noStrike">
                <a:solidFill>
                  <a:srgbClr val="000000"/>
                </a:solidFill>
                <a:latin typeface="Arial"/>
                <a:ea typeface="Times New Roman"/>
              </a:rPr>
              <a:t>	</a:t>
            </a:r>
            <a:r>
              <a:rPr b="0" lang="en-AU" sz="1600" spc="-1" strike="noStrike">
                <a:solidFill>
                  <a:srgbClr val="000000"/>
                </a:solidFill>
                <a:latin typeface="Arial"/>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85800" y="685800"/>
            <a:ext cx="7772400" cy="541008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ulture of trust is established at the outset of the team– trust should be defined and behaviours which exhibit trust should be known to team members; this can be enhanced by taking advantage of occasions when team members meet face to face</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ers set high performance expectations and model successful ways of working across physical boundaries and using communications technologies in an effective manner</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m leaders and members show competence in working in virtual team environments</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mbers are adaptive to new technologies and the flexibility of the team where roles and tasks may change often</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85800"/>
            <a:ext cx="7772400" cy="541008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team members are accountable for the common purpose and a set of common goals and answerability should be measured</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team members contribute to the construction of a plan that outlines basic rules for communication and an agreed way of working together </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ce the communication and protocols are established it is important that all team members know what they are and follow them</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mixture of communication mediums is utilised</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m members remain connected constantly </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ce to face meetings occur as often and as practical as possible</a:t>
            </a:r>
            <a:r>
              <a:rPr b="0" lang="en-AU"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ea typeface="Times New Roman"/>
              </a:rPr>
              <a:t>Communication tools for virtual teams</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ectronic whiteboards have a dry-erase whiteboard writing surface which captures writing electronically. Interactive whiteboards require a computer and are used to capture notes written on the whiteboard and to control (click and drag) and/or mark-up (annotate) a computer-generated image projected on the whiteboard surface from a digital projector.</a:t>
            </a: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facsimile (fax) machine is a telecommunications technology used to transmit copies of documents over the telephone network.</a:t>
            </a: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roupware are computer-based systems that that provide an interface to a shared environment that support teams of people working on a common task or towards a common goal. It is also known as Collaborative software.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685800" y="999720"/>
            <a:ext cx="7772400" cy="509580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icemail</a:t>
            </a:r>
            <a:r>
              <a:rPr b="0" lang="en-US" sz="2000" spc="-1" strike="noStrike">
                <a:solidFill>
                  <a:srgbClr val="000000"/>
                </a:solidFill>
                <a:latin typeface="Arial"/>
                <a:ea typeface="Times New Roman"/>
              </a:rPr>
              <a:t> is a centralized system of managing telephone messages for a large group of people.</a:t>
            </a:r>
            <a:endParaRPr b="0" lang="en-US" sz="20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oicemail messages are stored on hard disk drives and many users can retrieve or store messages at the same time on the same voice mail system.</a:t>
            </a:r>
            <a:endParaRPr b="0" lang="en-US" sz="16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dio conference is a telephone call where three or more people discuss simultaneously. They are used as a meeting tool or to disseminate information to many listeners at the same time. </a:t>
            </a:r>
            <a:endParaRPr b="0" lang="en-US" sz="1600" spc="-1" strike="noStrike">
              <a:solidFill>
                <a:srgbClr val="000000"/>
              </a:solidFill>
              <a:latin typeface="Constantia"/>
            </a:endParaRPr>
          </a:p>
          <a:p>
            <a:pPr lvl="1" marL="639720" indent="-245880">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mail is a method of creating, sending, storing, and receiving messages over electronic communication systems</a:t>
            </a:r>
            <a:r>
              <a:rPr b="0" lang="en-AU" sz="1600" spc="-1" strike="noStrike">
                <a:solidFill>
                  <a:srgbClr val="000000"/>
                </a:solidFill>
                <a:latin typeface="Arial"/>
                <a:ea typeface="Times New Roman"/>
              </a:rPr>
              <a:t> </a:t>
            </a:r>
            <a:endParaRPr b="0" lang="en-US" sz="1600" spc="-1" strike="noStrike">
              <a:solidFill>
                <a:srgbClr val="000000"/>
              </a:solidFill>
              <a:latin typeface="Constantia"/>
            </a:endParaRPr>
          </a:p>
          <a:p>
            <a:pPr lvl="1" marL="639720" indent="-24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ideo conference</a:t>
            </a:r>
            <a:r>
              <a:rPr b="0" lang="en-US" sz="1800" spc="-1" strike="noStrike">
                <a:solidFill>
                  <a:srgbClr val="000000"/>
                </a:solidFill>
                <a:latin typeface="Arial"/>
                <a:ea typeface="Times New Roman"/>
              </a:rPr>
              <a:t> also known as a videoteleconference is a set of interactive telecommunication technologies which allow two or more locations to interact via two-way video and audio transmissions concurrently. It has also been called visual collaboration and is a type of Groupwa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1071720"/>
            <a:ext cx="7772400" cy="502416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a:t>
            </a:r>
            <a:r>
              <a:rPr b="0" lang="en-US" sz="1800" spc="-1" strike="noStrike">
                <a:solidFill>
                  <a:srgbClr val="000000"/>
                </a:solidFill>
                <a:latin typeface="Arial"/>
                <a:ea typeface="Times New Roman"/>
              </a:rPr>
              <a:t> is a system of interconnected computer networks that transmit data. It consists of millions of smaller business, academic, domestic, and government networks, which together carry various information and services. The Internet and the World Wide Web are not the same: the Internet is a collection of interconnected computer networks; the Web is a collection of interconnected documents.</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conferencing</a:t>
            </a:r>
            <a:r>
              <a:rPr b="0" lang="en-US" sz="1800" spc="-1" strike="noStrike">
                <a:solidFill>
                  <a:srgbClr val="000000"/>
                </a:solidFill>
                <a:latin typeface="Arial"/>
                <a:ea typeface="Times New Roman"/>
              </a:rPr>
              <a:t> refers to a communication session between two or more people sharing computer data in real time. Interaction and presentation devices such as a screen, keyboard, mouse, camera, etc can be shared or can control each other’s computer. It is used to differentiate from video conferencing and audio conferencing. The data can include screen, documents, graphics, drawings and applications that can be seen,</a:t>
            </a:r>
            <a:r>
              <a:rPr b="0" lang="en-US" sz="1800" spc="-1" strike="noStrike">
                <a:solidFill>
                  <a:srgbClr val="000000"/>
                </a:solidFill>
                <a:latin typeface="Constantia"/>
                <a:ea typeface="Times New Roman"/>
              </a:rPr>
              <a:t> annotated or manipulated by participants.</a:t>
            </a:r>
            <a:r>
              <a:rPr b="0" lang="en-AU" sz="1800" spc="-1" strike="noStrike">
                <a:solidFill>
                  <a:srgbClr val="000000"/>
                </a:solidFill>
                <a:latin typeface="Constantia"/>
                <a:ea typeface="Times New Roman"/>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 Virtual Team ..</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a group of people who share information and solve problems using information and communications technologies.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a group of individuals who work across space (diverse geographic locations), time (span different time zones and can work 24 hours a day, 7 days a week) and organisational limits.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ve a common purpose and are mutually responsible for their performance and the achievement of the common goal. The individual members may never meet face to face using communications technologies to correspond.</a:t>
            </a:r>
            <a:r>
              <a:rPr b="0" lang="en-AU" sz="2400" spc="-1" strike="noStrike">
                <a:solidFill>
                  <a:srgbClr val="000000"/>
                </a:solidFill>
                <a:latin typeface="Arial"/>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Times New Roman"/>
              </a:rPr>
              <a:t>Collaborative problem solving…</a:t>
            </a:r>
            <a:endParaRPr b="0" lang="en-US" sz="36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s when a group of people come together and form a team in order to solve information problems. To solve these problems the individual team members need to share their knowledge and expertise to achieve a common goal and individuals are responsible for their actions.</a:t>
            </a: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447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he </a:t>
            </a:r>
            <a:r>
              <a:rPr b="1" i="1" lang="en-US" sz="3200" spc="-1" strike="noStrike">
                <a:solidFill>
                  <a:srgbClr val="04617b"/>
                </a:solidFill>
                <a:latin typeface="Calibri"/>
                <a:ea typeface="Times New Roman"/>
              </a:rPr>
              <a:t>characteristics of collaborative problem-solving</a:t>
            </a:r>
            <a:r>
              <a:rPr b="0" lang="en-US" sz="3200" spc="-1" strike="noStrike">
                <a:solidFill>
                  <a:srgbClr val="04617b"/>
                </a:solidFill>
                <a:latin typeface="Calibri"/>
                <a:ea typeface="Times New Roman"/>
              </a:rPr>
              <a:t> are:</a:t>
            </a:r>
            <a:endParaRPr b="0" lang="en-US" sz="3200" spc="-1" strike="noStrike">
              <a:solidFill>
                <a:srgbClr val="04617b"/>
              </a:solidFill>
              <a:latin typeface="Calibri"/>
            </a:endParaRPr>
          </a:p>
        </p:txBody>
      </p:sp>
      <p:sp>
        <p:nvSpPr>
          <p:cNvPr id="202" name=""/>
          <p:cNvSpPr txBox="1"/>
          <p:nvPr/>
        </p:nvSpPr>
        <p:spPr>
          <a:xfrm>
            <a:off x="304920" y="1981080"/>
            <a:ext cx="8153280" cy="411480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share a common goal and shared responsibility </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are committed to achieving the set goal and objectives</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consider other’s points of view and learn from listening to others </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share information and knowledge</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critically appraise each other’s ideas</a:t>
            </a: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4617b"/>
                </a:solidFill>
                <a:latin typeface="Calibri"/>
                <a:ea typeface="Times New Roman"/>
              </a:rPr>
              <a:t>Virtual team members have identified several </a:t>
            </a:r>
            <a:r>
              <a:rPr b="1" i="1" lang="en-US" sz="2400" spc="-1" strike="noStrike">
                <a:solidFill>
                  <a:srgbClr val="04617b"/>
                </a:solidFill>
                <a:latin typeface="Calibri"/>
                <a:ea typeface="Times New Roman"/>
              </a:rPr>
              <a:t>advantages</a:t>
            </a:r>
            <a:r>
              <a:rPr b="0" i="1" lang="en-US" sz="2400" spc="-1" strike="noStrike">
                <a:solidFill>
                  <a:srgbClr val="04617b"/>
                </a:solidFill>
                <a:latin typeface="Calibri"/>
                <a:ea typeface="Times New Roman"/>
              </a:rPr>
              <a:t> while working with people that they do not meet face to face or communicate with on a daily basis. These are:</a:t>
            </a:r>
            <a:endParaRPr b="0" lang="en-US" sz="2400" spc="-1" strike="noStrike">
              <a:solidFill>
                <a:srgbClr val="04617b"/>
              </a:solidFill>
              <a:latin typeface="Calibri"/>
            </a:endParaRPr>
          </a:p>
        </p:txBody>
      </p:sp>
      <p:sp>
        <p:nvSpPr>
          <p:cNvPr id="204" name=""/>
          <p:cNvSpPr txBox="1"/>
          <p:nvPr/>
        </p:nvSpPr>
        <p:spPr>
          <a:xfrm>
            <a:off x="990360" y="1981080"/>
            <a:ext cx="7467480" cy="411480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organisations to employ and hold on to the best workers regardless of location – employers can pick and choose team members according to their need</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individual flexibility – each team member brings a specific skill set and knowledge and this can be maximized </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reases worker productivity as less time is spent on travel – team members will not be commuting to a set workplace location on a regular basis and so they are able to spend travel time saved on working on the task</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 hour business – team members work at different times according to time zones and personal preferences and hence work on a project can be continuous</a:t>
            </a:r>
            <a:endParaRPr b="0" lang="en-US" sz="1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hances inter-organizational collaboration – effective communication tools and common understanding of how to use these tools can improve relationships within an organisation even if team members never meet</a:t>
            </a:r>
            <a:r>
              <a:rPr b="0" lang="en-US" sz="1800" spc="-1" strike="noStrike">
                <a:solidFill>
                  <a:srgbClr val="000000"/>
                </a:solidFill>
                <a:latin typeface="Constantia"/>
                <a:ea typeface="Times New Roman"/>
              </a:rPr>
              <a:t>	</a:t>
            </a:r>
            <a:r>
              <a:rPr b="0" lang="en-AU" sz="1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685800" y="1118880"/>
            <a:ext cx="7772400" cy="502452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ysical disabilities may not cause problems – often physically impaired individuals have great difficulty not only in travelling but in fitting into the workplace environment. In virtual teams, individuals usually work from home and this can assist physically impaired individuals to remain comfortable which will increase their productivity and work satisfaction.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sts involved in travel, parking, renting or owning a building or office space may be decreased or eliminated. Travelling to and from work, accommodating large numbers of employees, public transport, parking, purchase or hiring of office equipment and ancillary personnel is costly. These costs can be significantly reduced or in some cases removed with virtual teams.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ividuals have more decision making power – although virtual teams exist as a unit and have a common goal, individuals are usually working on their own and hence a greater sense of autonomy is present.</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09480"/>
            <a:ext cx="7848720" cy="190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4617b"/>
                </a:solidFill>
                <a:latin typeface="Calibri"/>
                <a:ea typeface="Times New Roman"/>
              </a:rPr>
              <a:t>Difficulties</a:t>
            </a:r>
            <a:r>
              <a:rPr b="0" i="1" lang="en-US" sz="1800" spc="-1" strike="noStrike">
                <a:solidFill>
                  <a:srgbClr val="04617b"/>
                </a:solidFill>
                <a:latin typeface="Calibri"/>
                <a:ea typeface="Times New Roman"/>
              </a:rPr>
              <a:t> identified with virtual teams are those that</a:t>
            </a:r>
            <a:r>
              <a:rPr b="0" i="1" lang="en-US" sz="4500" spc="-1" strike="noStrike">
                <a:solidFill>
                  <a:srgbClr val="04617b"/>
                </a:solidFill>
                <a:latin typeface="Calibri"/>
                <a:ea typeface="Times New Roman"/>
              </a:rPr>
              <a:t> </a:t>
            </a:r>
            <a:r>
              <a:rPr b="0" i="1" lang="en-US" sz="1800" spc="-1" strike="noStrike">
                <a:solidFill>
                  <a:srgbClr val="04617b"/>
                </a:solidFill>
                <a:latin typeface="Calibri"/>
                <a:ea typeface="Times New Roman"/>
              </a:rPr>
              <a:t>contribute to ineffective communication. Since the team operates as a community, members need to be considerate of the tone and context of online communications so that a sense of trust and respect is developed. This is better achieved in traditional face-to-face meetings where:</a:t>
            </a:r>
            <a:endParaRPr b="0" lang="en-US" sz="1800" spc="-1" strike="noStrike">
              <a:solidFill>
                <a:srgbClr val="04617b"/>
              </a:solidFill>
              <a:latin typeface="Calibri"/>
            </a:endParaRPr>
          </a:p>
        </p:txBody>
      </p:sp>
      <p:sp>
        <p:nvSpPr>
          <p:cNvPr id="207" name=""/>
          <p:cNvSpPr txBox="1"/>
          <p:nvPr/>
        </p:nvSpPr>
        <p:spPr>
          <a:xfrm>
            <a:off x="685800" y="2666520"/>
            <a:ext cx="7772400" cy="3429000"/>
          </a:xfrm>
          <a:prstGeom prst="rect">
            <a:avLst/>
          </a:prstGeom>
          <a:noFill/>
          <a:ln w="0">
            <a:noFill/>
          </a:ln>
        </p:spPr>
        <p:txBody>
          <a:bodyPr lIns="90000" rIns="90000" tIns="46800" bIns="46800" anchor="t">
            <a:norm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small group of people who work together in close proximity can observe and construe more than is possible via electronic communication as body language, tone of voice and other nonverbal communications can enhance the understanding between team members</a:t>
            </a: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deas can be discussed in real tim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uestions can be asked spontaneously and Ideas can be challenged on the spot without offens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n avoid unfavorable assumptions as team members can openly discuss protocols and procedures</a:t>
            </a:r>
            <a:r>
              <a:rPr b="0" lang="en-AU" sz="1600" spc="-1" strike="noStrike">
                <a:solidFill>
                  <a:srgbClr val="000000"/>
                </a:solidFill>
                <a:latin typeface="Arial"/>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re are different kinds of virtual teams:</a:t>
            </a:r>
            <a:endParaRPr b="0" lang="en-US" sz="32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ecutive Teams</a:t>
            </a:r>
            <a:r>
              <a:rPr b="0" lang="en-AU" sz="1800" spc="-1" strike="noStrike">
                <a:solidFill>
                  <a:srgbClr val="000000"/>
                </a:solidFill>
                <a:latin typeface="Arial"/>
              </a:rPr>
              <a:t> – are made up of managers who are on the team because of their position in the organisation. These teams are usually semi permanent teams with responsibility for specific divisions or functions in the organisation.</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ject Teams</a:t>
            </a:r>
            <a:r>
              <a:rPr b="0" lang="en-AU" sz="1800" spc="-1" strike="noStrike">
                <a:solidFill>
                  <a:srgbClr val="000000"/>
                </a:solidFill>
                <a:latin typeface="Arial"/>
              </a:rPr>
              <a:t> – are created around a specific task. Members of the team are selected based on their role and expertise in relation to that task. These teams are created for the life of the project.</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munity of practice teams</a:t>
            </a:r>
            <a:r>
              <a:rPr b="0" lang="en-AU" sz="1800" spc="-1" strike="noStrike">
                <a:solidFill>
                  <a:srgbClr val="000000"/>
                </a:solidFill>
                <a:latin typeface="Arial"/>
              </a:rPr>
              <a:t> – support people who are working on common tasks or in the same professional field and who can benefit from sharing experience. Memberships on these teams is voluntary. These teams don’t usually have specific deliverables but instead are forced on learning.</a:t>
            </a:r>
            <a:r>
              <a:rPr b="0" lang="en-AU"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1285560"/>
            <a:ext cx="7772400" cy="4809960"/>
          </a:xfrm>
          <a:prstGeom prst="rect">
            <a:avLst/>
          </a:prstGeom>
          <a:noFill/>
          <a:ln w="0">
            <a:noFill/>
          </a:ln>
        </p:spPr>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ork or production teams</a:t>
            </a:r>
            <a:r>
              <a:rPr b="0" lang="en-AU" sz="1800" spc="-1" strike="noStrike">
                <a:solidFill>
                  <a:srgbClr val="000000"/>
                </a:solidFill>
                <a:latin typeface="Arial"/>
              </a:rPr>
              <a:t> - </a:t>
            </a:r>
            <a:r>
              <a:rPr b="0" lang="en-US" sz="1800" spc="-1" strike="noStrike">
                <a:solidFill>
                  <a:srgbClr val="000000"/>
                </a:solidFill>
                <a:latin typeface="Arial"/>
                <a:ea typeface="Times New Roman"/>
              </a:rPr>
              <a:t>perform a specified function on a regular basis; the team is fixed</a:t>
            </a:r>
            <a:r>
              <a:rPr b="0" lang="en-AU" sz="1800" spc="-1" strike="noStrike">
                <a:solidFill>
                  <a:srgbClr val="000000"/>
                </a:solidFill>
                <a:latin typeface="Arial"/>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rvice teams</a:t>
            </a:r>
            <a:r>
              <a:rPr b="0" lang="en-AU" sz="1800" spc="-1" strike="noStrike">
                <a:solidFill>
                  <a:srgbClr val="000000"/>
                </a:solidFill>
                <a:latin typeface="Arial"/>
              </a:rPr>
              <a:t> - </a:t>
            </a:r>
            <a:r>
              <a:rPr b="0" lang="en-US" sz="1800" spc="-1" strike="noStrike">
                <a:solidFill>
                  <a:srgbClr val="000000"/>
                </a:solidFill>
                <a:latin typeface="Arial"/>
                <a:ea typeface="Times New Roman"/>
              </a:rPr>
              <a:t>support clients and/or the internal organisation in a maintenance role; usually operate 24 hours a day</a:t>
            </a:r>
            <a:r>
              <a:rPr b="0" lang="en-AU" sz="1800" spc="-1" strike="noStrike">
                <a:solidFill>
                  <a:srgbClr val="000000"/>
                </a:solidFill>
                <a:latin typeface="Arial"/>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tion teams</a:t>
            </a:r>
            <a:r>
              <a:rPr b="0" lang="en-AU" sz="1800" spc="-1" strike="noStrike">
                <a:solidFill>
                  <a:srgbClr val="000000"/>
                </a:solidFill>
                <a:latin typeface="Arial"/>
              </a:rPr>
              <a:t> - </a:t>
            </a:r>
            <a:r>
              <a:rPr b="0" lang="en-US" sz="1800" spc="-1" strike="noStrike">
                <a:solidFill>
                  <a:srgbClr val="000000"/>
                </a:solidFill>
                <a:latin typeface="Arial"/>
                <a:ea typeface="Times New Roman"/>
              </a:rPr>
              <a:t>provide immediate results usually originating from a critical situation</a:t>
            </a:r>
            <a:r>
              <a:rPr b="0" lang="en-AU" sz="1800" spc="-1" strike="noStrike">
                <a:solidFill>
                  <a:srgbClr val="000000"/>
                </a:solidFill>
                <a:latin typeface="Arial"/>
              </a:rPr>
              <a:t> </a:t>
            </a:r>
            <a:endParaRPr b="0" lang="en-US" sz="1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6T04:53:12Z</dcterms:created>
  <dc:creator>luponed</dc:creator>
  <dc:description/>
  <dc:language>en-US</dc:language>
  <cp:lastModifiedBy>luponed</cp:lastModifiedBy>
  <dcterms:modified xsi:type="dcterms:W3CDTF">2009-05-17T05:09:59Z</dcterms:modified>
  <cp:revision>6</cp:revision>
  <dc:subject/>
  <dc:title>Virtual Teams and Collaborative web sites</dc:title>
</cp:coreProperties>
</file>